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569-3AF3-4861-9EC9-5FCDDACD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747-23B0-485D-AA66-ECF7CF78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55B-FE2C-4EB4-83F7-641BBFBD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09B-9D4D-4B01-9D98-C1B914EC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9453-8571-419A-8E52-391018AC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D2F5-6753-43E1-BFBC-58186946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59EA-298E-4270-B66C-D771F844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4614-E779-4591-995A-BAAD369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4B2-CAA0-4821-A8B5-E169766F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BEAC-5D2A-43FA-9723-CA8C3C67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B091-E2F3-477A-841F-6DC8C218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522-2544-4D95-8E17-08395D71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CDC9-6015-4895-A1EC-3A9C700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ACCC-9F7E-4080-ACD7-9287CA43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EF07-BEE7-47D1-9A30-957DC984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EE1B-BAAB-4EE7-A042-BCAC3CAA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33F5-D117-44C9-8E02-C4E9C31C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A10-CD72-4305-96E7-B4182E72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12F-D457-483D-9199-12491D42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91F-74D3-4FED-B1EE-1F3330D7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5E4-6014-4C91-9D05-0B2F4D1A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9E4-42E7-4F28-B837-F1DB2974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49F-D490-4D7B-82B5-38FDF2E8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A73-F4A3-417A-8783-2C28DBD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3311-6678-4641-BC76-A5BF84087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6FAF-9235-462C-BAB2-1796BA872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ZENTÁCIÓ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F (Közös Értékelési Keretrendszer) KUTATÁS EREDMÉNYEIR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A MUNKATÁRSAKKAL KAPCSOLATOS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saját elégedettségüket (vagy elégedetlenségüket) megalapozó eredményeket vizsgált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9, mely a Tervezés – Megvalósítás – Ellenőrzés – Beavatkozás rendszerében a Megvalósítás szakaszára tehető. A mért eredmények stagnálnak, és/vagy néhány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897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. TÁRSADALMI KÖRNYEZETRE GYAKOROLT HATÁSOK EREDMÉNY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t el a társadalmi környezet elvárásaival összhangban (az élet minőségére gyakorolt hatás, a környezet és az erőforrások megőrzése, a szervezet saját hatékonysága, stb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 kritérium átlaga 56, mely a Tervezés – Megvalósítás – Ellenőrzés – Beavatkozás rendszerében az Ellenőrzés szakaszára tehető. A mért eredmények javuló tendenciát mutatnak, és/vagy a legtöbb kitűzött cél teljesül. A 8.2. akritérium eredmény (63 pont) kimondottan magasnak számí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5113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ALAPVETŐ TELJESÍTMÉNY CÉLOKKAL KAPCSOLATOS ERED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 el feladatai és célkitűzései tükrében, továbbá mennyire elégedettek a Hivatal eredményes működésében érdekelt szervek és személy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3789360"/>
            <a:ext cx="370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5, mely a Tervezés – Megvalósítás – Ellenőrzés – Beavatkozás rendszerében az Ellenőrzés szakaszára tehető. A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50403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5400720" cy="2530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211640" y="4317840"/>
            <a:ext cx="4818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5040360" cy="2490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11640" y="4297320"/>
            <a:ext cx="47545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2062080"/>
            <a:ext cx="49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6108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ŐZ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őző kutatás – 2005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rvezetfeljesztés – teljesítményértékelés – C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önértékelés résztvevőinek kivála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tatás a kutatásban résztvevők számára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2010.02.23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AF kérdőív kitöl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ÉRDŐÍVEK FELDOLG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7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Átlag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ok számtani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Szórás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számok eltérése az átlagt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alacsony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x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magas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Értékelhető válaszok száma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32 kitöltő munkatárs közül azok, akik konkrét, számszerűsíthető pontszámmal értékelték az adott alkritériumot (a 0, a kitöltetlen rubrika, az intervallum megadása nem értékelhetőnek minősü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908000"/>
            <a:ext cx="70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eldolgozás számszerűsíthető eredménye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VEZE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vezetők miként határozzák meg, fejlesztik a közigazgatási szerv küldetését és arculatát, hogyan fejlesztik ki a hosszú távú sikerhez szükséges értékeket és biztosítják azok érvényesülésé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895640" cy="28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92720" y="3573360"/>
            <a:ext cx="3706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kritérium átlaga 38, mely a Tervezés – Megvalósítás – Ellenőrzés – Beavatkozás rendszerében a Megvalósítás szakaszára tehető. Tehát a vezetés megalkotja a megfelelő intézkedésekre vonatkozó terveket, dokumentumokat, az intézkedések végrehajtásra kerülnek, de a felülvizsgálat, hogy a megfelelő intézkedésekre került-e sor – részben elma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STRATÉGIA ÉS TERVE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hajtja végre küldetését és valósítja meg jövőképét az érdekeltekre összpontosító stratégia útján, a releváns politikák, tervek, célkitűzések és célok segítségé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3645000"/>
            <a:ext cx="3706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PDCA ciklus értékelési kritériumait tekintve a Megvalósítás szakaszra esik. A kapott eredmény azt mutatja, hogy a hivatal rendelkezik a megfelelő intézkedésekre vonatkozó tervekkel, dokumentumokkal, az intézkedés is végrehajtásra kerül, de a szükséges ellenőrzés már nem történik me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5040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EMBERI ERŐFORRÁS-GAZDÁLKO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irányítja, fejleszti és aknázza ki a munkatársak tudását egyéni, csoport és szervezeti szinten egyaránt, valamint saját politikájának megvalósítása és a munkatársak hatékony munkavégzésének megvalósítása céljából hogyan szervezi a rendelkezésére álló erőforrá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573360"/>
            <a:ext cx="3706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Tervezés – Megvalósítás – Ellenőrzés – Beavatkozás rendszerében a Megvalósítás szakaszára tehető. A hivatal HR gazdálkodásában jellemző, hogy rendelkezik a megfelelő intézkedésekre vonatkozó tervekkel, dokumentumokkal, a szükséges intézkedések is végrehajtásra kerülnek. Az ellenőrzés folyamata viszont nem történik meg, nem vizsgálják felül, hogy vajon a megfelelő lépéseket teszi-e a hivatal az elvárt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5113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EGYÜTTMŰKÖDÉS ÉS ERŐFORR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tervezi és kezeli kapcsolatait és belső erőforrásait politikája és stratégiája támogatására, valamint folyamatainak hatékony működtetése céljábó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9, mely a Tervezés – Megvalósítás – Ellenőrzés – Beavatkozás rendszerében a Megvalósítás szakaszára tehető. A hivatal rendelkezik a megfelelő intézkedésekre vonatkozó tervekkel, dokumentumokkal, a szükséges intézkedések végrehajtásra kerülnek, viszont az ellenőrzés folyamata hiányzi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041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FOLYAMAT- ÉS VÁLTOZÁS-MENEDZ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saját politikáját, stratégiáját, valamint az ügyfelek / állampolgárok elégedettségét szolgálva hogyan kezeli, szervezi és fejleszti saját folyamat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7080" y="393372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3, mely a PDCA ciklusban a Megvalósítás szakaszára tehető, tehát a hivatal elkészít dokumentumokat, az döntéseket hoz, de az ellenőrzésre nem fordítanak kellő figyelmet, így a nem lehet tudni, hogy a megfelelő dolgokat teszik-e a megfelelő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5040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ÜGYFÉLKÖZPONTÚ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 Hivatal által tett intézkedések eredményességét értékelték az ügyfélvisszajelzések alapj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7, mely a PDCA ciklus rendszerében az Ellenőrzés szakaszára tehető. A válaszok alapján az eddig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11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10:13:41Z</dcterms:modified>
  <cp:revision>94</cp:revision>
  <dc:subject/>
  <dc:title>A KÖZPONTI TEAM FELADATAI</dc:title>
</cp:coreProperties>
</file>