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39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288A-0823-47A2-9D5B-2FAB8BA6F89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5461-85E0-4178-9BC9-A348966AA7B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gész Földet bejárt mottó jelentése, hogy legalább olyan minőségben vagyunk kötelesek továbbadni gyermekeinknek környezetünket, mint, ahogyan mi kaptu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3F84-C7DA-4092-9C3D-E7A2BBE86DB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rbe vesznek bennünket 4,6 milliárd év alatt kialakult, önmagukkal, és egymással rendkívül érzékeny egyensúlyban lévő ökoszisztémák, melyek feltételei annak, hogy lélegezhessünk, hogy táplálkozzunk, hogy szomjunkat olthassuk, egyszóval hogy éljünk. E környezeti elemek nélkül 1 percet sem tudnánk eltölteni é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C389-AA59-4BDC-8DD3-56E509B027A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7C9C-AD36-4117-9648-4BE96AF36F6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BCF-6CC1-4CB9-AB61-C3A055DD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2AC-FC4C-4EC3-915A-A0539B0F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A61-32D8-4D33-AC04-DC54A437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081-90F6-43C4-B238-47D8B2E7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423C-CD90-4DFA-A563-C21BDC38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9708-5445-47CC-BC62-7F686B33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75C8-02DE-4F3C-AD94-1C1ED882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A535-295E-4AE2-A05C-F76195D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4002-4C86-4239-9492-B0104A61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9865-01ED-47B4-8B24-A85EE25A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45F4-A764-40F0-A4B2-C1AC8D2E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F4B-E079-4636-A480-DF490FFD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A7FF-B6C8-4490-A9A5-9A9FA239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2433-6933-4B1C-BD84-6500E459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F6BD-1396-4A40-8F3B-E5512FA0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BA01-E388-4568-84D0-72CCFF06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9087-AC70-40C0-9517-61AD2CB2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8E5-A091-45B9-9651-D56A7C7F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E7E-2EA9-42C9-8E53-926FA710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B25-873C-4DD2-9965-FE58874E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AF3-8C47-418E-8FAF-2309FE38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DF9-BE40-420D-BD01-03E1A8E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2D8-4F6F-4C96-8466-40E74C88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179-1E3B-44AB-8E9F-4587D1C7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4C84-7C67-41F1-8346-179EE98E13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308720" y="508464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2940-609F-4A87-B918-844CE8A349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10.1.1.2/default.aspx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3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isoterv.hu/isomikro.html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7161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Light"/>
              </a:rPr>
              <a:t>Környezetvédelem Fenntartható Fejlőd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8160" y="1341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24720" y="1197000"/>
            <a:ext cx="1050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49080" y="587160"/>
            <a:ext cx="82422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FENNTARTHATÓ FOGYASZTÁ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6920" y="1718640"/>
            <a:ext cx="795996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eorgia"/>
              </a:rPr>
              <a:t>Tudatos vásárl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 pénzeddel szavazol! Te döntesz mit veszel meg és mit n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 szemét a legdrágább, ne vedd meg. Felesleges termék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Helyi, idényjellegű termékeket vegyé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Mennyi műanyagot viszel haza? Válaszd az egyszerűen csomagolt áru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Olvasd el a címkéket! Mit hol, és hogyan gyártott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Tartós használat! Kerüld az eldobható dolgo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20360" y="728280"/>
            <a:ext cx="7787520" cy="66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ENERGIATAKARÉKOS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85520" y="19998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ű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ízhaszná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ilág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özl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file"/>
          <p:cNvPicPr/>
          <p:nvPr/>
        </p:nvPicPr>
        <p:blipFill>
          <a:blip r:embed="rId1"/>
          <a:stretch/>
        </p:blipFill>
        <p:spPr>
          <a:xfrm>
            <a:off x="4859280" y="1773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izzo"/>
          <p:cNvPicPr/>
          <p:nvPr/>
        </p:nvPicPr>
        <p:blipFill>
          <a:blip r:embed="rId2"/>
          <a:stretch/>
        </p:blipFill>
        <p:spPr>
          <a:xfrm>
            <a:off x="2843280" y="17733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547_gaz_1_k"/>
          <p:cNvPicPr/>
          <p:nvPr/>
        </p:nvPicPr>
        <p:blipFill>
          <a:blip r:embed="rId3"/>
          <a:stretch/>
        </p:blipFill>
        <p:spPr>
          <a:xfrm>
            <a:off x="2843280" y="3933720"/>
            <a:ext cx="2160360" cy="161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18"/>
          <p:cNvPicPr/>
          <p:nvPr/>
        </p:nvPicPr>
        <p:blipFill>
          <a:blip r:embed="rId4"/>
          <a:stretch/>
        </p:blipFill>
        <p:spPr>
          <a:xfrm>
            <a:off x="5076720" y="39337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2"/>
          <p:cNvSpPr/>
          <p:nvPr/>
        </p:nvSpPr>
        <p:spPr>
          <a:xfrm>
            <a:off x="2987640" y="3933720"/>
            <a:ext cx="180036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5" descr="50_liter_utc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149720"/>
            <a:ext cx="1819080" cy="2497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698400" y="34128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SZELEKTÍV GYŰJTÉS, ÚJRAHASZNOSÍTÁ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4" name="Picture 5" descr="papir"/>
          <p:cNvPicPr/>
          <p:nvPr/>
        </p:nvPicPr>
        <p:blipFill>
          <a:blip r:embed="rId3"/>
          <a:stretch/>
        </p:blipFill>
        <p:spPr>
          <a:xfrm>
            <a:off x="714240" y="178596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muanyaghulladek"/>
          <p:cNvPicPr/>
          <p:nvPr/>
        </p:nvPicPr>
        <p:blipFill>
          <a:blip r:embed="rId4"/>
          <a:stretch/>
        </p:blipFill>
        <p:spPr>
          <a:xfrm>
            <a:off x="3203640" y="1844640"/>
            <a:ext cx="2232000" cy="1487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785880" y="14288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apí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571920" y="33577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űany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357880" y="37148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zelektív hulladékgyűjtés, komposztál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escn0601_400"/>
          <p:cNvPicPr/>
          <p:nvPr/>
        </p:nvPicPr>
        <p:blipFill>
          <a:blip r:embed="rId5"/>
          <a:stretch/>
        </p:blipFill>
        <p:spPr>
          <a:xfrm>
            <a:off x="971640" y="47242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akkumulator_5n"/>
          <p:cNvPicPr/>
          <p:nvPr/>
        </p:nvPicPr>
        <p:blipFill>
          <a:blip r:embed="rId6"/>
          <a:stretch/>
        </p:blipFill>
        <p:spPr>
          <a:xfrm>
            <a:off x="2556000" y="5013360"/>
            <a:ext cx="1357200" cy="1425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003435"/>
          <p:cNvPicPr/>
          <p:nvPr/>
        </p:nvPicPr>
        <p:blipFill>
          <a:blip r:embed="rId7"/>
          <a:stretch/>
        </p:blipFill>
        <p:spPr>
          <a:xfrm>
            <a:off x="3635280" y="4724280"/>
            <a:ext cx="909720" cy="154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gyogyszer2"/>
          <p:cNvPicPr/>
          <p:nvPr/>
        </p:nvPicPr>
        <p:blipFill>
          <a:blip r:embed="rId8"/>
          <a:stretch/>
        </p:blipFill>
        <p:spPr>
          <a:xfrm>
            <a:off x="4572000" y="5300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5"/>
          <p:cNvSpPr/>
          <p:nvPr/>
        </p:nvSpPr>
        <p:spPr>
          <a:xfrm>
            <a:off x="1908000" y="429264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eszélyes hulladék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5867280" y="5516640"/>
            <a:ext cx="1008360" cy="431640"/>
          </a:xfrm>
          <a:prstGeom prst="rightArrow">
            <a:avLst>
              <a:gd name="adj1" fmla="val 50000"/>
              <a:gd name="adj2" fmla="val 584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9" descr="kuka"/>
          <p:cNvPicPr/>
          <p:nvPr/>
        </p:nvPicPr>
        <p:blipFill>
          <a:blip r:embed="rId9"/>
          <a:stretch/>
        </p:blipFill>
        <p:spPr>
          <a:xfrm>
            <a:off x="5508720" y="2060640"/>
            <a:ext cx="2663640" cy="15714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6"/>
          <p:cNvSpPr/>
          <p:nvPr/>
        </p:nvSpPr>
        <p:spPr>
          <a:xfrm>
            <a:off x="7093080" y="4581360"/>
            <a:ext cx="180000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8" descr="uveg"/>
          <p:cNvPicPr/>
          <p:nvPr/>
        </p:nvPicPr>
        <p:blipFill>
          <a:blip r:embed="rId10"/>
          <a:stretch/>
        </p:blipFill>
        <p:spPr>
          <a:xfrm>
            <a:off x="500040" y="2857680"/>
            <a:ext cx="2005200" cy="1503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9"/>
          <p:cNvSpPr/>
          <p:nvPr/>
        </p:nvSpPr>
        <p:spPr>
          <a:xfrm>
            <a:off x="1928880" y="3500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Üv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66720" y="3157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ZELEKTÍV HULLADÉKGYŰJTÉS (PAPÍR, MŰANYAG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0" name="Picture 5" descr="Szelektív2"/>
          <p:cNvPicPr/>
          <p:nvPr/>
        </p:nvPicPr>
        <p:blipFill>
          <a:blip r:embed="rId1"/>
          <a:stretch/>
        </p:blipFill>
        <p:spPr>
          <a:xfrm>
            <a:off x="5292720" y="2060640"/>
            <a:ext cx="1757520" cy="234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Szelektív"/>
          <p:cNvPicPr/>
          <p:nvPr/>
        </p:nvPicPr>
        <p:blipFill>
          <a:blip r:embed="rId2"/>
          <a:stretch/>
        </p:blipFill>
        <p:spPr>
          <a:xfrm>
            <a:off x="7093080" y="2060640"/>
            <a:ext cx="1873080" cy="1406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6156360" y="162864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özponti begyűj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1"/>
          <p:cNvGrpSpPr/>
          <p:nvPr/>
        </p:nvGrpSpPr>
        <p:grpSpPr>
          <a:xfrm>
            <a:off x="1763640" y="1628640"/>
            <a:ext cx="3168360" cy="2520720"/>
            <a:chOff x="1763640" y="1628640"/>
            <a:chExt cx="3168360" cy="2520720"/>
          </a:xfrm>
        </p:grpSpPr>
        <p:pic>
          <p:nvPicPr>
            <p:cNvPr id="184" name="Picture 8" descr="image006"/>
            <p:cNvPicPr/>
            <p:nvPr/>
          </p:nvPicPr>
          <p:blipFill>
            <a:blip r:embed="rId3"/>
            <a:stretch/>
          </p:blipFill>
          <p:spPr>
            <a:xfrm>
              <a:off x="1853640" y="2215440"/>
              <a:ext cx="2954520" cy="19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0"/>
            <p:cNvSpPr/>
            <p:nvPr/>
          </p:nvSpPr>
          <p:spPr>
            <a:xfrm>
              <a:off x="1763640" y="1628640"/>
              <a:ext cx="31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Munkahelyi gyűjt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5"/>
          <p:cNvSpPr/>
          <p:nvPr/>
        </p:nvSpPr>
        <p:spPr>
          <a:xfrm>
            <a:off x="1908000" y="4292640"/>
            <a:ext cx="29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dminisztratív terület – Papírhullad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70040" y="2696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GYÉB VESZÉLYES HULLADÉKOK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(IRODAI MUNKÁK SORÁN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8" name="Picture 8" descr="12-44-08-248-00"/>
          <p:cNvPicPr/>
          <p:nvPr/>
        </p:nvPicPr>
        <p:blipFill>
          <a:blip r:embed="rId1"/>
          <a:stretch/>
        </p:blipFill>
        <p:spPr>
          <a:xfrm>
            <a:off x="3059280" y="2421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003435"/>
          <p:cNvPicPr/>
          <p:nvPr/>
        </p:nvPicPr>
        <p:blipFill>
          <a:blip r:embed="rId2"/>
          <a:stretch/>
        </p:blipFill>
        <p:spPr>
          <a:xfrm>
            <a:off x="1042920" y="1700280"/>
            <a:ext cx="1462320" cy="247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2543-150x150"/>
          <p:cNvPicPr/>
          <p:nvPr/>
        </p:nvPicPr>
        <p:blipFill>
          <a:blip r:embed="rId3"/>
          <a:stretch/>
        </p:blipFill>
        <p:spPr>
          <a:xfrm>
            <a:off x="6372360" y="1844640"/>
            <a:ext cx="2220840" cy="2220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7"/>
          <p:cNvSpPr/>
          <p:nvPr/>
        </p:nvSpPr>
        <p:spPr>
          <a:xfrm>
            <a:off x="2987640" y="1700280"/>
            <a:ext cx="32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Festékpatronok, Tonerek, elektronikai hulladék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971640" y="4292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le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zövegdoboz 10"/>
          <p:cNvSpPr/>
          <p:nvPr/>
        </p:nvSpPr>
        <p:spPr>
          <a:xfrm>
            <a:off x="6255000" y="4221000"/>
            <a:ext cx="25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zámítástechnika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rodai berendezé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18560" y="726840"/>
            <a:ext cx="7855560" cy="64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ESZÉLYES ANYAGOK JELÖLÉS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85520" y="16426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Környezetre ártal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Tűzveszél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Irrit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mar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Irritatív"/>
          <p:cNvPicPr/>
          <p:nvPr/>
        </p:nvPicPr>
        <p:blipFill>
          <a:blip r:embed="rId1"/>
          <a:stretch/>
        </p:blipFill>
        <p:spPr>
          <a:xfrm>
            <a:off x="4643280" y="1643040"/>
            <a:ext cx="1771920" cy="214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Környezeti veszély"/>
          <p:cNvPicPr/>
          <p:nvPr/>
        </p:nvPicPr>
        <p:blipFill>
          <a:blip r:embed="rId2"/>
          <a:stretch/>
        </p:blipFill>
        <p:spPr>
          <a:xfrm>
            <a:off x="7215120" y="1500120"/>
            <a:ext cx="1695600" cy="2152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Tűzveszélyes"/>
          <p:cNvPicPr/>
          <p:nvPr/>
        </p:nvPicPr>
        <p:blipFill>
          <a:blip r:embed="rId3"/>
          <a:stretch/>
        </p:blipFill>
        <p:spPr>
          <a:xfrm>
            <a:off x="6929280" y="3857760"/>
            <a:ext cx="1704960" cy="215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Maró"/>
          <p:cNvPicPr/>
          <p:nvPr/>
        </p:nvPicPr>
        <p:blipFill>
          <a:blip r:embed="rId4"/>
          <a:stretch/>
        </p:blipFill>
        <p:spPr>
          <a:xfrm>
            <a:off x="4357800" y="400068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571680" y="36432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HA LEHET HELYETTESÍTENI KE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928800" y="51436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Csomagolása: veszélyes hulladé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12800" y="865440"/>
            <a:ext cx="7867080" cy="53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TÁJÉKOZTATÁS FONTOSSÁGA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32000" y="1699920"/>
            <a:ext cx="1000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aj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066920" y="1699920"/>
            <a:ext cx="157140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http://www.rokastyle.hu/kollekcio/ftp/2009_02_12_17h52m15s.jpg"/>
          <p:cNvPicPr/>
          <p:nvPr/>
        </p:nvPicPr>
        <p:blipFill>
          <a:blip r:embed="rId1"/>
          <a:srcRect l="0" t="0" r="0" b="46133"/>
          <a:stretch/>
        </p:blipFill>
        <p:spPr>
          <a:xfrm>
            <a:off x="971640" y="2349360"/>
            <a:ext cx="2411280" cy="1943280"/>
          </a:xfrm>
          <a:prstGeom prst="rect">
            <a:avLst/>
          </a:prstGeom>
          <a:ln w="0">
            <a:noFill/>
          </a:ln>
        </p:spPr>
      </p:pic>
      <p:sp>
        <p:nvSpPr>
          <p:cNvPr id="206" name="Szövegdoboz 6"/>
          <p:cNvSpPr/>
          <p:nvPr/>
        </p:nvSpPr>
        <p:spPr>
          <a:xfrm>
            <a:off x="7008480" y="170028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leví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Mellékelt kép:"/>
          <p:cNvPicPr/>
          <p:nvPr/>
        </p:nvPicPr>
        <p:blipFill>
          <a:blip r:embed="rId2"/>
          <a:stretch/>
        </p:blipFill>
        <p:spPr>
          <a:xfrm>
            <a:off x="2340000" y="4836960"/>
            <a:ext cx="2419200" cy="1887840"/>
          </a:xfrm>
          <a:prstGeom prst="rect">
            <a:avLst/>
          </a:prstGeom>
          <a:ln w="0">
            <a:noFill/>
          </a:ln>
        </p:spPr>
      </p:pic>
      <p:sp>
        <p:nvSpPr>
          <p:cNvPr id="208" name="Szövegdoboz 8"/>
          <p:cNvSpPr/>
          <p:nvPr/>
        </p:nvSpPr>
        <p:spPr>
          <a:xfrm>
            <a:off x="3126240" y="443700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Rád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http://retronom.hu/files/images/K%C3%A9p(29).preview.jpg"/>
          <p:cNvPicPr/>
          <p:nvPr/>
        </p:nvPicPr>
        <p:blipFill>
          <a:blip r:embed="rId3"/>
          <a:stretch/>
        </p:blipFill>
        <p:spPr>
          <a:xfrm>
            <a:off x="6227640" y="227664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ttp://www.itbusiness.hu/data/cms103432/internet_kicsi.jpg"/>
          <p:cNvPicPr/>
          <p:nvPr/>
        </p:nvPicPr>
        <p:blipFill>
          <a:blip r:embed="rId4"/>
          <a:stretch/>
        </p:blipFill>
        <p:spPr>
          <a:xfrm>
            <a:off x="3708360" y="2349360"/>
            <a:ext cx="2214720" cy="19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42560" y="3715920"/>
            <a:ext cx="7705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Light"/>
              </a:rPr>
              <a:t>KÖSZÖNÖM MEGTISZTELŐ FIGYELMÜK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360" y="1916280"/>
            <a:ext cx="41655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 földet nem nagyapáinktól örököltük, hanem unokáinktól kaptuk kölcsö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01-fold"/>
          <p:cNvPicPr/>
          <p:nvPr/>
        </p:nvPicPr>
        <p:blipFill>
          <a:blip r:embed="rId1"/>
          <a:stretch/>
        </p:blipFill>
        <p:spPr>
          <a:xfrm>
            <a:off x="971640" y="292428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723240" y="538920"/>
            <a:ext cx="792396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ASSAN KÖZHELY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DE NAGYON IGAZ …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50160" y="64224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KÖRNYEZETÜNK ELEME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5" descr="csillagok02"/>
          <p:cNvPicPr/>
          <p:nvPr/>
        </p:nvPicPr>
        <p:blipFill>
          <a:blip r:embed="rId1"/>
          <a:stretch/>
        </p:blipFill>
        <p:spPr>
          <a:xfrm>
            <a:off x="2411280" y="1628640"/>
            <a:ext cx="1613160" cy="2151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oss2o1"/>
          <p:cNvPicPr/>
          <p:nvPr/>
        </p:nvPicPr>
        <p:blipFill>
          <a:blip r:embed="rId2"/>
          <a:stretch/>
        </p:blipFill>
        <p:spPr>
          <a:xfrm>
            <a:off x="5364000" y="1628640"/>
            <a:ext cx="2303640" cy="149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Mikrobiológiai Olaj- és Zsírlebontá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4149720"/>
            <a:ext cx="2358720" cy="164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060304felszallo_madarak"/>
          <p:cNvPicPr/>
          <p:nvPr/>
        </p:nvPicPr>
        <p:blipFill>
          <a:blip r:embed="rId5"/>
          <a:stretch/>
        </p:blipFill>
        <p:spPr>
          <a:xfrm>
            <a:off x="4284720" y="4149720"/>
            <a:ext cx="2448000" cy="1609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2"/>
          <p:cNvSpPr/>
          <p:nvPr/>
        </p:nvSpPr>
        <p:spPr>
          <a:xfrm>
            <a:off x="611280" y="1628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Leveg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4211640" y="38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z Élővil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4211640" y="1628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Tala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611280" y="3789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V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25760" y="590760"/>
            <a:ext cx="7871400" cy="7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ÁLLÍTHATATLAN NÖVEKED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bevolkerung"/>
          <p:cNvPicPr/>
          <p:nvPr/>
        </p:nvPicPr>
        <p:blipFill>
          <a:blip r:embed="rId1"/>
          <a:stretch/>
        </p:blipFill>
        <p:spPr>
          <a:xfrm>
            <a:off x="900000" y="2924280"/>
            <a:ext cx="285768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ao-paulo_225x160"/>
          <p:cNvPicPr/>
          <p:nvPr/>
        </p:nvPicPr>
        <p:blipFill>
          <a:blip r:embed="rId2"/>
          <a:stretch/>
        </p:blipFill>
        <p:spPr>
          <a:xfrm>
            <a:off x="2124000" y="4365720"/>
            <a:ext cx="3167280" cy="2252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900000" y="1557360"/>
            <a:ext cx="3095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lapvető problé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 túlnépesedés é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sztelen növ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zövegdoboz 8"/>
          <p:cNvSpPr/>
          <p:nvPr/>
        </p:nvSpPr>
        <p:spPr>
          <a:xfrm>
            <a:off x="5580000" y="3068640"/>
            <a:ext cx="3000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Óránként ~10.000 fővel nő Földünk népessége, és ezzel az amúgy természetes fogyasztás, és hulladék termelés káros folyamatokká vál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313140_2"/>
          <p:cNvPicPr/>
          <p:nvPr/>
        </p:nvPicPr>
        <p:blipFill>
          <a:blip r:embed="rId1"/>
          <a:srcRect l="0" t="11078" r="0" b="11412"/>
          <a:stretch/>
        </p:blipFill>
        <p:spPr>
          <a:xfrm>
            <a:off x="6227640" y="3645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water-pollution"/>
          <p:cNvPicPr/>
          <p:nvPr/>
        </p:nvPicPr>
        <p:blipFill>
          <a:blip r:embed="rId2"/>
          <a:stretch/>
        </p:blipFill>
        <p:spPr>
          <a:xfrm>
            <a:off x="1116000" y="3933720"/>
            <a:ext cx="2879640" cy="279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50160" y="65952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ÍZSZENNYEZ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6" descr="180px-Water_pollution"/>
          <p:cNvPicPr/>
          <p:nvPr/>
        </p:nvPicPr>
        <p:blipFill>
          <a:blip r:embed="rId3"/>
          <a:stretch/>
        </p:blipFill>
        <p:spPr>
          <a:xfrm>
            <a:off x="900000" y="2205000"/>
            <a:ext cx="2016360" cy="175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cid_Mine_Drainage_Impact"/>
          <p:cNvPicPr/>
          <p:nvPr/>
        </p:nvPicPr>
        <p:blipFill>
          <a:blip r:embed="rId4"/>
          <a:stretch/>
        </p:blipFill>
        <p:spPr>
          <a:xfrm>
            <a:off x="2916360" y="220500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1"/>
          <p:cNvSpPr/>
          <p:nvPr/>
        </p:nvSpPr>
        <p:spPr>
          <a:xfrm>
            <a:off x="3995640" y="4221000"/>
            <a:ext cx="216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udapest szennyvízének közel fele ömlik tisztítatlanul a Dunáb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084720" y="22766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elszíni és felszín alatti víz szennyezése, túlzott kitermel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8"/>
          <p:cNvSpPr/>
          <p:nvPr/>
        </p:nvSpPr>
        <p:spPr>
          <a:xfrm>
            <a:off x="250920" y="1484280"/>
            <a:ext cx="863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 túlfogyasztás, és túlzott hulladéktermelés a környezeti elemek mindegyikét éri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8560" y="726840"/>
            <a:ext cx="7855560" cy="64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EVEGŐSZENNYEZ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7" descr="traffic"/>
          <p:cNvPicPr/>
          <p:nvPr/>
        </p:nvPicPr>
        <p:blipFill>
          <a:blip r:embed="rId1"/>
          <a:stretch/>
        </p:blipFill>
        <p:spPr>
          <a:xfrm>
            <a:off x="755640" y="1628640"/>
            <a:ext cx="3024360" cy="208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350px-Air_"/>
          <p:cNvPicPr/>
          <p:nvPr/>
        </p:nvPicPr>
        <p:blipFill>
          <a:blip r:embed="rId2"/>
          <a:stretch/>
        </p:blipFill>
        <p:spPr>
          <a:xfrm>
            <a:off x="755640" y="4437000"/>
            <a:ext cx="3024360" cy="2013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780000" y="2997360"/>
            <a:ext cx="273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özl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nergiaterm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image?id=96935&amp;rendTypeId=4"/>
          <p:cNvPicPr/>
          <p:nvPr/>
        </p:nvPicPr>
        <p:blipFill>
          <a:blip r:embed="rId3"/>
          <a:stretch/>
        </p:blipFill>
        <p:spPr>
          <a:xfrm>
            <a:off x="5940360" y="2637000"/>
            <a:ext cx="3024360" cy="196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0160" y="65952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ULLADÉKVÁL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Picture 5" descr="waste_pile"/>
          <p:cNvPicPr/>
          <p:nvPr/>
        </p:nvPicPr>
        <p:blipFill>
          <a:blip r:embed="rId1"/>
          <a:stretch/>
        </p:blipFill>
        <p:spPr>
          <a:xfrm>
            <a:off x="4643280" y="1916280"/>
            <a:ext cx="3238560" cy="290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20070119szemetbal2"/>
          <p:cNvPicPr/>
          <p:nvPr/>
        </p:nvPicPr>
        <p:blipFill>
          <a:blip r:embed="rId2"/>
          <a:stretch/>
        </p:blipFill>
        <p:spPr>
          <a:xfrm>
            <a:off x="928800" y="1857240"/>
            <a:ext cx="3651120" cy="2940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428760" y="4857840"/>
            <a:ext cx="442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lesleges dolgok megvásár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övid termék-életcik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evés újrahasznos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52680" y="590760"/>
            <a:ext cx="7841160" cy="7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NERGIAIGÉN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Picture 5" descr="image042"/>
          <p:cNvPicPr/>
          <p:nvPr/>
        </p:nvPicPr>
        <p:blipFill>
          <a:blip r:embed="rId1"/>
          <a:stretch/>
        </p:blipFill>
        <p:spPr>
          <a:xfrm>
            <a:off x="642960" y="1643040"/>
            <a:ext cx="4790880" cy="36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muszakicikk"/>
          <p:cNvPicPr/>
          <p:nvPr/>
        </p:nvPicPr>
        <p:blipFill>
          <a:blip r:embed="rId2"/>
          <a:stretch/>
        </p:blipFill>
        <p:spPr>
          <a:xfrm>
            <a:off x="5580000" y="1916280"/>
            <a:ext cx="2951280" cy="1769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5435640" y="3860640"/>
            <a:ext cx="35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éges mennyiségű fosszilis energiaforr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49080" y="658440"/>
            <a:ext cx="80946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A FENNTARTHATÓ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Picture 4" descr="d3"/>
          <p:cNvPicPr/>
          <p:nvPr/>
        </p:nvPicPr>
        <p:blipFill>
          <a:blip r:embed="rId1"/>
          <a:stretch/>
        </p:blipFill>
        <p:spPr>
          <a:xfrm>
            <a:off x="714240" y="2500200"/>
            <a:ext cx="3168720" cy="271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1b"/>
          <p:cNvPicPr/>
          <p:nvPr/>
        </p:nvPicPr>
        <p:blipFill>
          <a:blip r:embed="rId2"/>
          <a:stretch/>
        </p:blipFill>
        <p:spPr>
          <a:xfrm>
            <a:off x="4932360" y="2421000"/>
            <a:ext cx="3600360" cy="2944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857160" y="18572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ossz szeml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214960" y="17859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ó szeml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8:46:26Z</dcterms:created>
  <dc:creator>Gizella</dc:creator>
  <dc:description/>
  <dc:language>en-US</dc:language>
  <cp:lastModifiedBy>Gizella</cp:lastModifiedBy>
  <dcterms:modified xsi:type="dcterms:W3CDTF">2010-08-23T07:41:14Z</dcterms:modified>
  <cp:revision>57</cp:revision>
  <dc:subject/>
  <dc:title>ÚJ INFORMÁCIÓ-BIZTONSÁGI IRÁNYÍTÁSI RENDSZERSZABVÁNY</dc:title>
</cp:coreProperties>
</file>