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6D5-4700-4563-B46F-92C0011F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115-1465-4E70-A126-11B165FA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3F9-B9A1-41FC-B425-57589B0A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45C-E469-4C4B-8F7E-4FE296FB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7EC-AA13-4F64-AC38-499ACC9F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6B3-0E26-4F63-BB17-72A75196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C56-6A5B-491E-B396-2A455CD6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4F5-E577-4E82-B63E-94F0EB50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5D5-79DA-4F42-BFAC-61CD8FD6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23B-71FD-4BD9-BD2B-2C1BAB85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5FF-3E7A-4517-B681-76AAD3DF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515-6F7C-42B4-A81F-9F244515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A3F4-1327-41FC-A767-202BCF22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5734080"/>
            <a:ext cx="219528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Komárom Város Önkormányz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ÁROP 1.A.2/A-2008-007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ÁJÉKOZTATÓ AZ ESÉLYEGYENLŐSÉGI SZEMPONTOK ÉRVÉNYESÍTÉSÉR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2303280" cy="61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6093000"/>
            <a:ext cx="403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 projekt az Európai Unió támogatásával, az Európai Szociális Alap társfinanszírozásával valósul m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950080"/>
            <a:ext cx="62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0508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2852640"/>
            <a:ext cx="829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élcsoport és esélyegyenlőségi terü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z esélyegyenlőség célcsoportj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Vele született vagy általuk nem befolyásolható tulajdonsága miatt a társadalomban hátrányba kerülő emberek és csoportj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Nem (sex – ge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Faji hovatartozás, bőrszín, nemzetiség, nemzeti vagy etnikai, vallási kisebbséghez tartoz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Fogyatékos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Szexuális irányultság, nemi identi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Életkor, családi állapot, társadalmi származás, vagyoni helyzet, világnézeti meggyőződés, politikai vagy más vélem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i terü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6800" indent="-316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ok a területek melyek hozzájárulhatnak az esélyegyenlőségi célcsoportok hazai helyzetének javulásáh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aládbarát munkahelyi körülmények megteremtése, erősí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mek (férfiak és nők) közötti esélykülönbségek csökken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akadálymentesítés előrehala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gyatékkal élők életminőségének és munkapiaci esélyeinek jav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mák életminőségének és munkapiaci esélyeinek jav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ás hátrányos helyzetű csoportok munkapiaci és társadalmi esélyeinek javít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rányelvek, jog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4800" indent="-3348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urópai Unió Tanácsa 2000-ben két nagyjelentőségű irányelvet (Faji Irányelv és Foglalkoztatási Irányelv) is elfogadott a diszkrimináció visszaszorítására, melyek hazai jogrendszerbe illesztésének az Unióhoz való csatlakozásig meg kellett történnie. A törvény elfogadásával ezen kívül még hat irányelv – többségükben a nők és a férfiak egyenlő bánásmódban részesítésének követelményét tartalmazó – átültetése történt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00/43/EK irányelv a személyek közötti, faji vagy etnikai származásra való tekintet nélküli egyenlő bánásmód elvének végrehajtásá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00/78/EK  irányelv a  foglalkoztatási  és  munkahelyi  egyenlő bánásmód általános kereteinek végrehajtásáró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3. évi CXXV. Törvény az egyenlő bánásmódról és az esélyegyenlőség előmozdításáról (Ebktv.)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önkormányzatokra is kiterjesztett törvény, az 50 munkavállalónál több személyt foglalkoztató költségvetési szervekre vonatkozóan esélyegyenlőségi program kidolgozását, elfogadását írja el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agyar Köztársaság 2010. évi költségvetését megalapozó egyes törvények módosításáról szóló 2009. évi CIX. Törvény  (Tv.) kiegészítette az Ebktv-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v. kötelezővé teszi a helyi önkormányzatok és többcélú kistérségi társulások számára az öt évre szóló helyi esélyegyenlőségi program elfogad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program hiányában az önkormányzat, többcélú kistérségi társulás egyes pályázati forrásokból nem részesül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leghátrányosabb helyzetű kistérségekben lévő, valamint 20.000 lakos feletti települések esetében 2010. július 1-től, egyéb települések esetében 2011. január 1-től kell alkalmazni a helyi esélyegyenlőségi progra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20/2010. (IV.16.) Kormány rendelet a helyi esélyegyenlőségi program elkészítésének szempontjairól (Hepr.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ÁROP szempontok teljesül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91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saládbarát munkahelyi körülmények megteremtése, erős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914120"/>
            <a:ext cx="8496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A megkülönböztetés tilalma, egyenlő bánás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GYES-ről, GYEd-ről, ápolási díjról visszatérők alkalmazása az elmúlt, ill. következő 5 év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Rugalmas munkaidő szervezés, vagy csúsztatható munkakezdés lehető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Munkaidő- kedvezmény biztosítása a dolgozók továbbképzésé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GYES-en, GYED-en lévő munkatársakkal való szervezett kapcsolattar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Megvalósítás során eszközöket alkalmaz a célcsoport érdekeinek figyelembe vételére, védelmére</a:t>
            </a: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5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mek közötti esélykülönbségek csökken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771560"/>
            <a:ext cx="84960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YES-ről, GYED-ről, ápolási díjról visszatérők alkalmazása az elmúlt, ill. következő 5 év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YES-en, GYED-en lévő munkatársakkal való szervezett kapcsolat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valósítás során eszközöket alkalmaz a célcsoport érdekeinek figyelembe vételére, védelmére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915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Minden hátrányos megkülönböztetés sérti az emberi méltóságot, de nem minden emberi méltóságot sértő magatartás jelenti az egyenlő bánásmód sérelmét.”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Dr. Demeter J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379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kadálymentesítés előrehal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131560"/>
            <a:ext cx="8496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ervezet döntéshozói, munkavállalói vagy közönsége számára évente esélyegyenlőségi képzést 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kommunikációs akadályment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21140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ás hátrányos helyzetű csoportok munkapiaci és társadalmi esélyeinek jav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2490480"/>
            <a:ext cx="84960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ervezet döntéshozói, munkavállalói vagy közönsége számára évente esélyegyenlőségi képzést 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KÖSZÖNÖM MEGTISZTELŐ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GYELMÜK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2303280" cy="615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27280" y="6165720"/>
            <a:ext cx="403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projekt az Európai Unió támogatásával, az Európai Szociális Alap társfinanszírozásával valósul m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02136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ogalm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59640" y="5734080"/>
            <a:ext cx="21952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 = Egyenlő bánásmó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z  egyenlő  bánásmód  és  az  esélyegyenlőség  fogalmát  gyakran  használják  szinonimaként,  ami  azt sugallja,  hogy  egy  és  ugyanazon  dologról  van  szó.  Az  egyenlő   bánásmód  elve(másként  a  diszkrimináció  tilalma)  és  az  esélyegyenlőségi  politika  ugyanannak  az  elvárásnak  két eltérő  filozófiájú megközelít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z esélyegyenlőség érvényesítése többet, mást kíván  meg,  mint pusztán a diszkriminációmentes működés  biztosítása.  Az  esélyegyenlőség  alapja  a  diszkrimináció-mentesség.  Ezen  felül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ét  terület tudja erősíteni az esélyegyenlősége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. saját szervezetén bel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. az általa nyújtott szolgáltatás és más tevékenység sor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 = Egyenlő bánásmó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. A szervezeten belül azzal tudja egy szervezet érvényesíteni az esélyegyenlőséget, ha figyel arra, hogy nagyobb esélyt kapjanak ezen célcsoportok a munkavállalásra és az el menetel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.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zolgáltatás nyújtása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orán arra kell törekedni, hogy a célcsoportok tagj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inél nagyobb számban kapjanak információt szolgáltatásairó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inél nagyobb számban részesüljenek a szolgáltatásaiból és más tevékenységébő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versenyképességét,  helyzetét,  életkörülményeit  érdemben  javítsák  a  szervezetszolgáltatás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dern használatban olyan megkülönböztető bánásmód (cselekedet, tevékenység, kijelentés, elmulasztott tett, viselkedés), mely az egyén (személy) vagy a csoport esélyegyenlőségére hat. A hatása lehet negatív vagy pozitív, módszere pedig nyílt vagy burko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Negatív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átrányos megkülönbözteté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zkrimináció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vagy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egatív diszkrimináció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ösztönös vagy tudatos kirekesztő, megalázó cselekedet. Indítéka lehet a fölérendeltség megszerzése vagy megtartása a csoporton belül vagy csoportok között. Az egyenlő bánásmód elvével ellentétes eljárás. Általa létrejön az esélyegyenlőtlenség, a gazdasági vagy társadalmi igazságtalanság. Ürügye a személy vagy csoport másiktól eltérő tulajdonságáról (másságáról) szerzett ismer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Pozitív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oportra, személyre vonatkozó jogi, adminisztratív vagy egyéb segítséget jelent, melyre a csoport vagy személy valamilyen szempontból a többséghez képest hátrányos helyzete ad okot. Indítéka a domináns egyén vagy csoport együttérzése, megértés illetve a másik fél követelése vagy tiltakozása a gazdasági és társadalmi igazságtalanság ellen. Szándéka a szolidaritás, az embercsoportok közötti gazdasági vagy társadalmi igazságtalanság enyhítése, vagyis az esélyegyenlőség megteremtésre. A pozitív diszkrimináció bizonyos esetben korlátokat állít főleg a domináns és esetleg a hátrányos helyzetben lévőnek, mégis az esélyegyenlőséget vizsgálva igazságosabb. Például ilyen egy alulképviselt csoport tagjainak segítése, részesülése az arányosság elvén (kvótáv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 megkülönböztetés módsz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Nyílt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mikor valakit az összehasonlítható helyzetben lévő többieknél, nyíltan kedvezőbben vagy kevésbé kedvezően kezel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Burkolt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kkor fordul elő, amikor egy látszólag semleges előírás, ismérv vagy gyakorlat kedvezőbb vagy kedvezőtlenebb helyzetbe hoz valak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16:45Z</dcterms:created>
  <dc:creator>cmrt</dc:creator>
  <dc:description/>
  <dc:language>en-US</dc:language>
  <cp:lastModifiedBy>Gizella</cp:lastModifiedBy>
  <dcterms:modified xsi:type="dcterms:W3CDTF">2010-08-23T11:29:51Z</dcterms:modified>
  <cp:revision>35</cp:revision>
  <dc:subject/>
  <dc:title>1. dia</dc:title>
</cp:coreProperties>
</file>