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E8B-6851-4E87-A5F1-AE73E9A2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C9B-BA40-47B8-8E4F-649FD1D8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E2C-2B22-48BF-BA43-66CB0304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1DA-1C35-482E-ABAF-01486389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0861-EFD1-4A06-8BC7-7F7A4317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0F72-6150-4955-A6DD-20CE107C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1ED5-23B3-4AB9-887D-47D87832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953B-8C56-4600-ACF5-E2245190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3CF4-E7EC-4570-A540-2D5DA149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C585-1B86-4B00-94AC-56A3183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8C0D-D657-432B-880F-DC08322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181-216D-41C7-B030-8C28F000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E5A6-4036-4166-8A4F-8D402DC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CC89-24BA-4AA7-843B-9B0614E5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A2FD-5522-4A8D-955D-98A7C529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ED70-E4B0-4373-9CC4-0A7CCD40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BF7E-6099-4F06-8502-4893C811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E81-3645-45FE-A0E7-047D2723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C1C-2A6D-416F-9748-5D9D8146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66A-35AA-4823-B32B-7019D701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7F7-5059-409C-A10B-10AB12CB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783-D54D-4E96-93E0-F0820817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B3B-E291-4A02-8E3D-868C920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816-2D90-467D-A1E0-C51C11D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3F1-C438-43C7-9DF4-44489C1B4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44F1-91DF-4152-9B3A-FE87B3E8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UNKAHELYI  EGÉSZSÉGVÉDELMI ÉS BIZTONSÁGI IRÁNYÍTÁSI RENDSZ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EBIR) SZABVÁNY ISMERTE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810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Gondoskodni kell az erőforrásokról a rendszer bevezetéséhez és fenntartásához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vezetőség egy tagjának kinevez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adatai, jogosultsága, felelőssé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rögzí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Jelentés készítési 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2. Képzés, tudatosság, 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felkészültség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Oktatás megtervez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Tudatosság kialak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ő felkészültsé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ott intézkedés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3. Tanácskozás és kommunik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bevezetése a MEB információk  munkavállalók és az érdekelt felek felé történő eljuttatására, a munkavállalók bevonása a szabályozások kialakításá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4. Dokument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MEBIR elemei - politika, célok, szabályozások, feljegyzések - kölcsön-hatásainak, valamint a kapcsolódó dokumentációnak a meghatározása.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dokumentáció tárolható bármilyen alakú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vagy típusú adathordoz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5. A dokumentumok és adatok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kezel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környezetközpontú  irányítási rendszer számára szükséges dokumentumokat ellenőrzés alatt kell tarta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6. A működés szabályoz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zonosítani és szabályozni kell a veszélyekkel kapcsolatos műveleteket, tevékenységeket, összhangban a politikával és a célokkal. Ezeknek ki kell terjednie a munkahelyekre, a folyamatokra, a berendezésekre, gépekre,  a karbantartásra é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unkaszervezés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7. Felkészülés és reagálás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vészhelyzetek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ialakítása a lehetséges események és vészhelyzetek meghatározására, felismerésére, a reagálási tevékenységre, valamint a lehetséges egészségkárosodás és sérülés megelőzésére és enyhítésére. Értékelni kell az eseményeket, vészhelyzeteket bekövetkezésük után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8208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1. Figyelemmel kísérés és 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mér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 kialakítása a MEB működése eredményességének figyelemmel kísérésére és mérésére, valamint a jogszabályi követelmények betartásár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szükséges mérőeszközöknek kalib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áltnak kell lenniü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2. Balesetek, eseménye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nemmegfelelőségek,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helyesbítés és megelő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alesetek, események kez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okok vizsgálatár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következmények enyhít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helyesbítés és megelőzés kezdemé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  nyezésére, arányban a MEB kockázat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13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83818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3. Feljegyzés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Feljegyzéseket kell készíteni és ezeket meg kell őrizni, hogy bizonyítékul szolgáljanak a MEBIR  megfelelőségére, eredményes működésére. A feljegyzéseknek igazolni kell a képzést,  az auditokat és az átvizsgálás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1. ÁLTALÁNOS 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szervezetnek létre kell hoznia, és fenn kell tartania egy környezetközpontú irányítási rendszert, az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SZ 28001:2003 szabvány követelményeinek megfelelő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4. Au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Tervezett, rendszeres és átfogó au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rendszer-követelmények teljesülésének érték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evezetés, fenntartás ellenőrz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eredményesség értékel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vezetés részére információt kell adni az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audit eredményérő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6. VEZETŐSÉGI ÁTVIZSG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202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endszerértékelés a folyamatos javulás érdekében. Figyelembe veszi az auditok, az ellenőrzések, a helyesbítő, megelőző intézkedések, az érdekelt felek visszajelzéseinek tapasztalatait. Vizsgálja a politika megfelelőségét, a célok teljesülését, meghatározza a fejlesztési feladat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átvizsgálást dokumentálni k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2. MEB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lkalmassá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Közvetítés a munkavállalók fel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záférhetősé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jlesz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95280" y="54900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lkalmas munkahelyi és egyészség-védelmi politika megfogalmazása, rögzítése, közvetítése a munkavállalók  felé és hozzáférés biztosítása a nyilvánosság szám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 politika legyen összhangban a szervezet és az érdekelt felek igénye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artalmazza a szervezet egészére kiterjedő elkötelezettséget az egészség védelmére, a biztonságra, a jogszabályok betartás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1. Veszélyazonosítás, kockázat-értékelés és a kockázat kézben tartásának tervez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észítés a veszélyek folyamatos felismerésére, a kockázatok értékel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és a szükséges kézbentartási intézkedések bevezet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2. Jogi és egyéb követelmény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emzés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Köve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a környezeti tényezőkre vonatkozó jogszabályok megismerésére, folyamatos figyelésére, a munkavállalók és az érdekelt felek tájékoztatásá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46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3. Cél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Mér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Célok rögzítése a jogszabályi követelmé-nyek,  a veszélyek és a kockázatok, 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érdekelt felek elvárásainak figyelembe vételével, összhangban a MEB politikáv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21896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4. MEB irányítási program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elősségek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Eszközök, határid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programok készítése és rögzítése a célok és előirányzatok elér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1. Szervezeti felépítés és felelőssé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Ismerte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Szabályozni kell az érintett személyek feladatait, felelősségét, az egymás közötti függőségeket, kapcsolatokat és ezt az érintettek tudomására kell hozni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07:40:29Z</dcterms:modified>
  <cp:revision>90</cp:revision>
  <dc:subject/>
  <dc:title>A KÖZPONTI TEAM FELADATAI</dc:title>
</cp:coreProperties>
</file>